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7D3-C6BE-4498-96C5-E1612C0F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ble 1.3 pg.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C55-F727-4B71-9F1A-876A5A82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27F-BFEE-409C-BA63-C387009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81B-E1CC-444C-AA42-44B0CA42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2BC-AC0D-44F8-83DD-CE5CD498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1AFC-6846-4B8F-9818-858B8723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131-9AF2-4869-AE9F-E0BB1A3A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0301-2ACC-4596-A723-6F1ED80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E60-B143-4CA6-83F4-BCB4019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F885-6483-4D7E-9419-A932F82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CEAE-29FA-4669-8924-CB7E281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F56-8DFB-47CA-878C-33E2E4A3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F5E-91D5-41BB-AFF0-779D489D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2811-E955-486D-A202-04EEC2E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2E8-6C87-4D65-B248-ACB35AA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11E-1708-4678-B840-ECFD48D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333-F3DC-404F-869A-07B5C112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A059-8003-435B-A4BC-AE020405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7ED-1FF8-495F-899F-710CEAA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31C-43CA-4204-99D3-DC7772A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2E5-D6B6-4CC7-A1BC-C9A015E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690-2B19-44F2-9E31-2DF6D042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606-0752-40CB-B2CD-1EF6929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AA5-01E9-474B-8422-766B9AA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8B8-DA0B-4933-87E2-9386D1B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DB99-7123-448D-9338-2C8556A37A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FAF-9CB4-4E74-8CB8-123FDCD9BA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istrict #6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 Trainer of Trainer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6-2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cond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second language acquisition provides the foundation for the SI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®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circumstances or reasons for learning a second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 and Academic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tors that affect language acqui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ummins’ quadrant model of Language lear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ree or Disagre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hild acquires its first language primarily by imitating ad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acquiring a second language is more similar to the process of acquiring the first language than it is differ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way for a child to learn English in school is to control the vocabulary, syntax, and sequence of grammatical structures that the child is exposed 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 fluency in English is a strong indicator that an ELL will succeed in the class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 few more.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6492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 student has learned the language of instruction, his problems in the classroom are largely over and he should be able to handle academic assignments with little difficu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ing a child learning English in a mainstream classroom will ensure that she will spend enough time in English to learn the languag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itial “silent period” can benefit the ELL because it allows him an opportunity to process and decode the new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teachers should suggest to the parents of a child learning English that the parents speak English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mmary of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 learns language by unconsciously generating rules, perhaps to fill and innate blueprint (Chomsk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errors often indicate that learning is taking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arns language in meaningful, supportive, and communicative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nderstands more than he can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require a lot of time to become flu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ircumstances for learning L1 vs. L2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by infants and todd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in order to communicate with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and unconsciou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ime pressur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learn developmental concepts as well as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d at school,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ges, often times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with community, work, could be to communicate with loved ones, succeed in the US, job marke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conscious, structured, learned not acquired, stressful, ongoing, use it or lose it, never becomes your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of a timeframe, social and aca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evelopmental concepts to L2 for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ges of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488600"/>
            <a:ext cx="88390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-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ent Period”, 500 word receptive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rl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ed comprehension, one or two-word responses, 1000 word receptive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ch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comprehension, errors in grammar, simple sentences, 3000 word receptive voca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mediate Fl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-5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llent comprehension, complex and varied sentence structure, 3000+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le pl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it like to try to communicate while remembering 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se one person in your group to st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in by saying, “What I usually do ea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ning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articipant, in turn will add a sent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...none of you may use a word that contains the letter “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y to maintain normal conversationa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and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 should be kept in ESL classes until they know English, then they can join mainstream class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is statement with your small gr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storm reasons why it doesn’t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OP® model provides a framework for instruction that promotes content learning and English languag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nd Academic language can and should be learn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and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 will often appear to be fluent in English but in reality lack sufficient academic language proficiency and related skills to succee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s perceived as la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it is a lack of proficiency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adem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proficiency is the ability to use language for both academic purposes and basic communicative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vs.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(shorter sentences, vocabulary and gram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ce-to-face, small groups,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understanding seldom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familia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erbal c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pportunities to 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com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in the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ing teams repres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years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model for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’t do it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 what’s best for k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ctors that Affect L2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page 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 most important characteristics that affect the ease of difficulty of language development are the level of contextual support and the degree of cognitiv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ual support: Clues, often nonverbal,that students use to gain meaning in a new language, “increase comprehensibility”, the environment (broad sen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demand: “brain strain”, level of difficulty of th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590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419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200" y="1641600"/>
            <a:ext cx="43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11840" y="5867280"/>
            <a:ext cx="4012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276720"/>
            <a:ext cx="1828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ny c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327672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w c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quadrant would the following activitie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-to-face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T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-V assisted les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lling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 lesson with maps and pho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 word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ademic lessons without p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telephone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role is NOT to make academic tasks less cognitively demanding, but to support their successful accomplishment by adding context, activating prior knowledge, and scaffolding the task for step-by-step su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...what can be done to take what is in quadrant D and move it to quadrant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evalu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35, 37 of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teams discuss strengths and weaknesses of their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UNCH!!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bout 4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2044800"/>
            <a:ext cx="5715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fined content objective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fined language objective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oncepts appropriate for age and educational background level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ry materials used to a high degree, making lesson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 of content for all levels of student pro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ful activities that integrat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content and language objec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language objective to support a content objective (Reproducible 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D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cabulary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content and language objectives with a partner using the questions on Reproducible 3.3 (Manual pg. 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-Lesson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producible 3.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ating Ms. Chen, Mrs. Hargroves , and Mr. Hensen in Ch. 2 of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pg. 75 and 77 are examples of a matrix to assist in developing languag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ilding Team Discus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rough first three sections in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points to cover with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/no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m through pg. 43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king Content Compreh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y 1 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will become familiar with the 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engage in practice with Lesson Preparation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begin to develop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-related lexic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discuss sources of language objectives, issues in second language acquisition, and implementation strategies for sheltered instr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ole Group Debrie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SIOP lesso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materials for last day work-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a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h, Science or Social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area material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ets out 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hing new or that was reaffirmed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key concepts from this section that I will share with my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gering question(s) around lesson prep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SIOP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®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king Content Comprehensible for English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Jana Echevarria, Mary Ellen Vogt and Deborah J.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200-Th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209-Abbreviated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anual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7-Treasure H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heltered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taneous roundta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the SIOP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®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ense of terms (manual pg. 2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between SDAIE and 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is that SDAIE is a collection of strategies and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 is a scientifically validated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isual representation (manual pg. 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“A Model for Sheltered Instruction” pgs. 13-16 of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earch Bas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year (1996-2003) partnership with Center for Research on Education, Diversity, &amp; Excellence (CRE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key practices for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effects on students’ academic literacy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profession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 of collaboration with teachers to develop th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and reliability study found that the SIOP instrument is a highly reliable and valid measure of sheltered instruction (Guarino, et. al.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earch Resul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7-1998 comparison of ELLs with trained SIOP teachers and thos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 narrative prompt scored using the Illinois Measure of Annual Growth in English (IM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results for SIOP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-1999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n expository pro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on pg. 33 of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EAK!!!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ake a 15 minut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29736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8 compon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 brainst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for understanding (pg. 39 of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cblevins</cp:lastModifiedBy>
  <dcterms:modified xsi:type="dcterms:W3CDTF">2006-06-27T14:43:14Z</dcterms:modified>
  <cp:revision>20</cp:revision>
  <dc:subject/>
  <dc:title>District #6 SIOP Trainer of Trainers </dc:title>
</cp:coreProperties>
</file>